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http://p0.so.qhmsg.com/bdr/_240_/t01f80e4bd6af9d11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http://p1.so.qhimgs1.com/bdr/_240_/t012079bc2110968fc1.jpg"/>
          <p:cNvPicPr/>
          <p:nvPr/>
        </p:nvPicPr>
        <p:blipFill>
          <a:blip r:embed="rId2"/>
          <a:srcRect l="0" t="0" r="0" b="9555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http://p2.so.qhmsg.com/bdr/_240_/t01733970b8e06d8417.jpg"/>
          <p:cNvPicPr/>
          <p:nvPr/>
        </p:nvPicPr>
        <p:blipFill>
          <a:blip r:embed="rId3"/>
          <a:srcRect l="0" t="0" r="0" b="955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6" name="TextBox 5" descr=""/>
          <p:cNvPicPr/>
          <p:nvPr/>
        </p:nvPicPr>
        <p:blipFill>
          <a:blip r:embed="rId4"/>
          <a:stretch/>
        </p:blipFill>
        <p:spPr>
          <a:xfrm>
            <a:off x="826920" y="627120"/>
            <a:ext cx="784872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6"/>
          <p:cNvSpPr/>
          <p:nvPr/>
        </p:nvSpPr>
        <p:spPr>
          <a:xfrm>
            <a:off x="285840" y="785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结：这三篇文章的结尾有个共同特点，就是与前面内容相照应。他们或者是与开头照应，或者是与题目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"/>
          <p:cNvSpPr/>
          <p:nvPr/>
        </p:nvSpPr>
        <p:spPr>
          <a:xfrm>
            <a:off x="285840" y="20718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三篇课文的结尾除了与前面的内容相照应之外，还有各自的特点。请你再读一读，结合文章内容、主旨想一想，这三个结尾有什么不同点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642960" y="9288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这样，我有了第一本长篇小说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"/>
          <p:cNvSpPr/>
          <p:nvPr/>
        </p:nvSpPr>
        <p:spPr>
          <a:xfrm>
            <a:off x="428760" y="1571760"/>
            <a:ext cx="813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省略号蕴含着对母亲的无尽感激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5"/>
          <p:cNvSpPr/>
          <p:nvPr/>
        </p:nvSpPr>
        <p:spPr>
          <a:xfrm>
            <a:off x="539640" y="627120"/>
            <a:ext cx="82090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于是，我又想起了在故乡童年时代的“摇花乐”，还有那摇落的阵阵桂花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"/>
          <p:cNvSpPr/>
          <p:nvPr/>
        </p:nvSpPr>
        <p:spPr>
          <a:xfrm>
            <a:off x="539640" y="185112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个“又”字说明作者不止一次地想起故乡童年时代的“摇花乐”和桂花雨，只是这次母亲的话使她又一次想起。淡淡的一句话，却传递出了作者对故乡桂花的深深怀念。家乡的桂花，是跟作者童年的快乐连在一起的，那种“摇花乐”和桂花雨已植进了她的生命，成为她幸福童年的最美好、最耐人回味的记忆。这恐怕是作者难忘家乡桂花的真正原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5"/>
          <p:cNvSpPr/>
          <p:nvPr/>
        </p:nvSpPr>
        <p:spPr>
          <a:xfrm>
            <a:off x="611280" y="627120"/>
            <a:ext cx="8208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从心底里知道，“精彩极了 ”也好，“糟糕透了 ”也好，这两个极端的断言有一个共同的出发点，那就是爱。在爱的鼓舞下，我努力地向前驶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"/>
          <p:cNvSpPr/>
          <p:nvPr/>
        </p:nvSpPr>
        <p:spPr>
          <a:xfrm>
            <a:off x="539640" y="30034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在结尾总结了在童年生活中，给自己留下深刻印象的事，这件事对作者的影响极大，使作者受益终身。结尾作者强调了自己对生活的感受和领悟，说明作者善于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3"/>
          <p:cNvSpPr/>
          <p:nvPr/>
        </p:nvSpPr>
        <p:spPr>
          <a:xfrm>
            <a:off x="285840" y="57168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场景描写不仅能表达作者的感情，它们还有其他的作用。让我们来读一读这两个片段，深入体会一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214200" y="150012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空间非常低矮，低矮得使人感到压抑。不足两百平米的厂房，四壁潮湿颓败。七八十台破缝纫机一行行排列着，七八十个都不算年轻的女人忙碌在自己的缝纫机旁。因为光线阴暗，每个女人的头上方都吊着一只灯泡。正是酷暑炎夏，窗不能开，七八十个女人的身体和七八十只灯泡所散发的热量，使我感到犹如身在蒸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285840" y="57168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看各样彩排着的戏人边走边唱，看踩高跷走路，看虾兵、蚌精、牛头、马面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人山人海，卖小吃的挤得密密层层，各式各样的糖果点心、鸡鸭鱼肉都有。我和父亲都饿了，我多馋啊！但不敢，也不忍心叫父亲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285840" y="242892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请同学们在这两个场景中挑选一个，边读边想象画面，说说在这段场景描写中，你体会到了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357120" y="321480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从母亲工作的场景中，我体会到了母亲工作环境的恶劣，感受到了母亲工作的辛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214200" y="64296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空间非常低矮，低矮得使人感到压抑。不足两百平米的厂房，四壁潮湿颓败。七八十台破缝纫机一行行排列着，七八十个都不算年轻的女人忙碌在自己的缝纫机旁。因为光线阴暗，每个女人的头上方都吊着一只灯泡。正是酷暑炎夏，窗不能开，七八十个女人的身体和七八十只灯泡所散发的热量，使我感到犹如身在蒸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285840" y="57168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看各样彩排着的戏人边走边唱，看踩高跷走路，看虾兵、蚌精、牛头、马面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人山人海，卖小吃的挤得密密层层，各式各样的糖果点心、鸡鸭鱼肉都有。我和父亲都饿了，我多馋啊！但不敢，也不忍心叫父亲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57120" y="214308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从“我”和父亲逛庙会的场景中，我体会到了庙会的热闹，感受到了儿子对父亲的体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357120" y="3143160"/>
            <a:ext cx="814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小结：对母亲恶劣的工作环境的描写，更能让我们感受到母亲的辛劳；对热闹庙会的描写，更能衬托儿子对父亲的体谅。看来，场景描写不仅能让我们体会到作者的感情，还能在烘托氛围的同时衬托人形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142920" y="642960"/>
            <a:ext cx="806436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自读“词句段运用”第三题中的两个句子，体会特别的“第一次”。思考：作者在什么情况下有了这种新的感觉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9"/>
          <p:cNvSpPr/>
          <p:nvPr/>
        </p:nvSpPr>
        <p:spPr>
          <a:xfrm>
            <a:off x="285840" y="1714680"/>
            <a:ext cx="8064360" cy="4291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那一天我第一次发现，母亲原来是那么瘦小！那一天我第一次觉得自己长大了，应该是个大人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>
            <a:off x="214200" y="264312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”看到母亲在工作及其劳累、挣钱极其不易的情况下还支持“我”读书，让“我”第一次有了这种新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3"/>
          <p:cNvSpPr/>
          <p:nvPr/>
        </p:nvSpPr>
        <p:spPr>
          <a:xfrm>
            <a:off x="285840" y="785880"/>
            <a:ext cx="8064360" cy="9471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是我第一次真正辛酸的哭，与在家里撒娇的哭、发脾气的哭、打架的哭都大不一样，是人生道路中品尝到的新滋味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9"/>
          <p:cNvSpPr/>
          <p:nvPr/>
        </p:nvSpPr>
        <p:spPr>
          <a:xfrm>
            <a:off x="428760" y="2571840"/>
            <a:ext cx="8064360" cy="9471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里粜稻、卖猪给“我”凑学费，看到家里人把所有的钱都花到“我”身上，“我”的内心极其震撼，极为内疚和感激，才第一次有了这种新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8"/>
          <p:cNvSpPr/>
          <p:nvPr/>
        </p:nvSpPr>
        <p:spPr>
          <a:xfrm flipH="1">
            <a:off x="-720" y="15876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"/>
          <p:cNvSpPr/>
          <p:nvPr/>
        </p:nvSpPr>
        <p:spPr>
          <a:xfrm>
            <a:off x="151560" y="13500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五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7" descr=""/>
          <p:cNvPicPr/>
          <p:nvPr/>
        </p:nvPicPr>
        <p:blipFill>
          <a:blip r:embed="rId1"/>
          <a:stretch/>
        </p:blipFill>
        <p:spPr>
          <a:xfrm>
            <a:off x="7332840" y="4087800"/>
            <a:ext cx="163008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0" name="文本框 11"/>
          <p:cNvSpPr/>
          <p:nvPr/>
        </p:nvSpPr>
        <p:spPr>
          <a:xfrm>
            <a:off x="7345440" y="407664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0" descr=""/>
          <p:cNvPicPr/>
          <p:nvPr/>
        </p:nvPicPr>
        <p:blipFill>
          <a:blip r:embed="rId2"/>
          <a:stretch/>
        </p:blipFill>
        <p:spPr>
          <a:xfrm>
            <a:off x="7332840" y="4522680"/>
            <a:ext cx="163008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2" name="文本框 11"/>
          <p:cNvSpPr/>
          <p:nvPr/>
        </p:nvSpPr>
        <p:spPr>
          <a:xfrm>
            <a:off x="7345440" y="451152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"/>
          <p:cNvSpPr/>
          <p:nvPr/>
        </p:nvSpPr>
        <p:spPr>
          <a:xfrm>
            <a:off x="357120" y="928800"/>
            <a:ext cx="8064720" cy="4291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在我们成长的过程中，不管是和家人、老师还是朋友，总会有一件事或某个时刻，触动了你的心弦，让我们想一想，谈谈自己的感受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9"/>
          <p:cNvSpPr/>
          <p:nvPr/>
        </p:nvSpPr>
        <p:spPr>
          <a:xfrm>
            <a:off x="357120" y="2571840"/>
            <a:ext cx="806472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听到弟弟撕心裂肺的哭声，一遍又一遍喊着哥哥，我的内心第一次有了一种责任感，觉得自己应该担负起照顾好弟弟的重任。第一次觉得不应该和弟弟争吃、争喝、争玩具，我要有个哥哥的样子，我要替爸爸妈妈减轻负担。想到这里，我走进了厨房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3"/>
          <p:cNvSpPr/>
          <p:nvPr/>
        </p:nvSpPr>
        <p:spPr>
          <a:xfrm>
            <a:off x="357120" y="92880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老师提供的场景想一想，如果这个场景中的“我”就是你的话，你有什么样的新感受？想一想，写一写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9"/>
          <p:cNvSpPr/>
          <p:nvPr/>
        </p:nvSpPr>
        <p:spPr>
          <a:xfrm>
            <a:off x="357120" y="257184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爸爸妈妈晚上不在家，我饿了，姐姐给我做饭。我第一次觉得有姐姐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对话气泡: 矩形 3"/>
          <p:cNvSpPr/>
          <p:nvPr/>
        </p:nvSpPr>
        <p:spPr>
          <a:xfrm>
            <a:off x="3745080" y="142920"/>
            <a:ext cx="151128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4"/>
          <p:cNvSpPr/>
          <p:nvPr/>
        </p:nvSpPr>
        <p:spPr>
          <a:xfrm>
            <a:off x="285840" y="714240"/>
            <a:ext cx="8429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爸爸妈妈晚上不在家，我饿了，姐姐给我做饭。她做好饭，端到我面前，帮我拿来小勺，搬来椅子，又对我说：“快尝尝好吃吗？”我第一次觉得姐姐就像妈妈一样。我为有这样的姐姐感到幸福和温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5"/>
          <p:cNvSpPr/>
          <p:nvPr/>
        </p:nvSpPr>
        <p:spPr>
          <a:xfrm>
            <a:off x="357120" y="314316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小结：我们每一个人就是在一次次新的感悟中，由幼稚无知变得成熟懂事，这就是成长。让我们做生活的有心人，捕捉触动我们心灵的瞬间，随时记录下自己成长的足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2"/>
          <p:cNvSpPr/>
          <p:nvPr/>
        </p:nvSpPr>
        <p:spPr>
          <a:xfrm>
            <a:off x="2124000" y="423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朗读句子，注意停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"/>
          <p:cNvSpPr/>
          <p:nvPr/>
        </p:nvSpPr>
        <p:spPr>
          <a:xfrm>
            <a:off x="714240" y="2071800"/>
            <a:ext cx="7272360" cy="5205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克勤于邦，克俭于家。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尚书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标注 6"/>
          <p:cNvSpPr/>
          <p:nvPr/>
        </p:nvSpPr>
        <p:spPr>
          <a:xfrm>
            <a:off x="1668600" y="1143000"/>
            <a:ext cx="1269720" cy="500040"/>
          </a:xfrm>
          <a:prstGeom prst="wedgeRoundRectCallout">
            <a:avLst>
              <a:gd name="adj1" fmla="val -44421"/>
              <a:gd name="adj2" fmla="val 144361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8"/>
          <p:cNvSpPr/>
          <p:nvPr/>
        </p:nvSpPr>
        <p:spPr>
          <a:xfrm>
            <a:off x="1538280" y="254808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9"/>
          <p:cNvSpPr/>
          <p:nvPr/>
        </p:nvSpPr>
        <p:spPr>
          <a:xfrm>
            <a:off x="2658960" y="2548080"/>
            <a:ext cx="279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圆角矩形标注 10"/>
          <p:cNvSpPr/>
          <p:nvPr/>
        </p:nvSpPr>
        <p:spPr>
          <a:xfrm>
            <a:off x="1512720" y="3435480"/>
            <a:ext cx="2571840" cy="792000"/>
          </a:xfrm>
          <a:prstGeom prst="wedgeRoundRectCallout">
            <a:avLst>
              <a:gd name="adj1" fmla="val 3916"/>
              <a:gd name="adj2" fmla="val -148240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诸侯封国之称，后指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179280" y="3301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积月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11"/>
          <p:cNvSpPr/>
          <p:nvPr/>
        </p:nvSpPr>
        <p:spPr>
          <a:xfrm>
            <a:off x="3708360" y="2536920"/>
            <a:ext cx="279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圆角矩形标注 12"/>
          <p:cNvSpPr/>
          <p:nvPr/>
        </p:nvSpPr>
        <p:spPr>
          <a:xfrm>
            <a:off x="3521160" y="1392120"/>
            <a:ext cx="934920" cy="500040"/>
          </a:xfrm>
          <a:prstGeom prst="wedgeRoundRectCallout">
            <a:avLst>
              <a:gd name="adj1" fmla="val -9712"/>
              <a:gd name="adj2" fmla="val 89893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971640" y="2544840"/>
            <a:ext cx="7272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能够辛勤地为国家效力，能够节俭持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714240" y="1419120"/>
            <a:ext cx="7272360" cy="5205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克勤于邦，克俭于家。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尚书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7"/>
          <p:cNvSpPr/>
          <p:nvPr/>
        </p:nvSpPr>
        <p:spPr>
          <a:xfrm>
            <a:off x="2479320" y="1357200"/>
            <a:ext cx="3167640" cy="5205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居安思危，戒奢以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魏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8"/>
          <p:cNvSpPr/>
          <p:nvPr/>
        </p:nvSpPr>
        <p:spPr>
          <a:xfrm>
            <a:off x="571680" y="2643120"/>
            <a:ext cx="770400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在安乐的环境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要想到可能有的危险。指要提高警惕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防止祸患。戒奢以俭的意思就是倡导节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反对奢侈浪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圆角矩形标注 3"/>
          <p:cNvSpPr/>
          <p:nvPr/>
        </p:nvSpPr>
        <p:spPr>
          <a:xfrm>
            <a:off x="1643040" y="571680"/>
            <a:ext cx="1357200" cy="500040"/>
          </a:xfrm>
          <a:prstGeom prst="wedgeRoundRectCallout">
            <a:avLst>
              <a:gd name="adj1" fmla="val -40546"/>
              <a:gd name="adj2" fmla="val 105023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4"/>
          <p:cNvSpPr/>
          <p:nvPr/>
        </p:nvSpPr>
        <p:spPr>
          <a:xfrm>
            <a:off x="1682640" y="1855800"/>
            <a:ext cx="3384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5"/>
          <p:cNvSpPr/>
          <p:nvPr/>
        </p:nvSpPr>
        <p:spPr>
          <a:xfrm>
            <a:off x="4210200" y="1855800"/>
            <a:ext cx="2840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角矩形标注 6"/>
          <p:cNvSpPr/>
          <p:nvPr/>
        </p:nvSpPr>
        <p:spPr>
          <a:xfrm>
            <a:off x="4357800" y="428760"/>
            <a:ext cx="1357200" cy="500040"/>
          </a:xfrm>
          <a:prstGeom prst="wedgeRoundRectCallout">
            <a:avLst>
              <a:gd name="adj1" fmla="val -43680"/>
              <a:gd name="adj2" fmla="val 153925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1"/>
          <p:cNvSpPr/>
          <p:nvPr/>
        </p:nvSpPr>
        <p:spPr>
          <a:xfrm>
            <a:off x="1332000" y="1131840"/>
            <a:ext cx="6912000" cy="5205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俭入奢易，由奢入俭难。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司马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"/>
          <p:cNvSpPr/>
          <p:nvPr/>
        </p:nvSpPr>
        <p:spPr>
          <a:xfrm>
            <a:off x="1332000" y="2309760"/>
            <a:ext cx="669600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节俭进入奢侈（是）容易（的），由奢侈进入节俭（却）困难（了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2"/>
          <p:cNvSpPr/>
          <p:nvPr/>
        </p:nvSpPr>
        <p:spPr>
          <a:xfrm>
            <a:off x="-40320" y="1214280"/>
            <a:ext cx="9013680" cy="9471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粥一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当思来处不易；半丝半缕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恒念物力维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朱用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3"/>
          <p:cNvSpPr/>
          <p:nvPr/>
        </p:nvSpPr>
        <p:spPr>
          <a:xfrm>
            <a:off x="357120" y="335772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粥一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当想到得来是不容易的；一丝一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常想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些东西生产出来是很艰难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圆角矩形标注 4"/>
          <p:cNvSpPr/>
          <p:nvPr/>
        </p:nvSpPr>
        <p:spPr>
          <a:xfrm>
            <a:off x="571680" y="571680"/>
            <a:ext cx="4714560" cy="500040"/>
          </a:xfrm>
          <a:prstGeom prst="wedgeRoundRectCallout">
            <a:avLst>
              <a:gd name="adj1" fmla="val 45648"/>
              <a:gd name="adj2" fmla="val 117912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半丝半线，极言物件之细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5"/>
          <p:cNvSpPr/>
          <p:nvPr/>
        </p:nvSpPr>
        <p:spPr>
          <a:xfrm>
            <a:off x="4513320" y="1712880"/>
            <a:ext cx="13921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标注 7"/>
          <p:cNvSpPr/>
          <p:nvPr/>
        </p:nvSpPr>
        <p:spPr>
          <a:xfrm>
            <a:off x="3714840" y="2428920"/>
            <a:ext cx="4714920" cy="500040"/>
          </a:xfrm>
          <a:prstGeom prst="wedgeRoundRectCallout">
            <a:avLst>
              <a:gd name="adj1" fmla="val 34189"/>
              <a:gd name="adj2" fmla="val -178537"/>
              <a:gd name="adj3" fmla="val 16667"/>
            </a:avLst>
          </a:prstGeom>
          <a:noFill/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气词，表示肯定或强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8"/>
          <p:cNvSpPr/>
          <p:nvPr/>
        </p:nvSpPr>
        <p:spPr>
          <a:xfrm>
            <a:off x="7500960" y="171468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3"/>
          <p:cNvSpPr/>
          <p:nvPr/>
        </p:nvSpPr>
        <p:spPr>
          <a:xfrm>
            <a:off x="285840" y="1424160"/>
            <a:ext cx="806436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魏征告诉唐太宗：在安全的时候要考虑到危难，可用节俭的办法来戒除奢侈。他的原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9"/>
          <p:cNvSpPr/>
          <p:nvPr/>
        </p:nvSpPr>
        <p:spPr>
          <a:xfrm>
            <a:off x="826920" y="3200400"/>
            <a:ext cx="403236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居安思危，戒奢以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"/>
          <p:cNvSpPr/>
          <p:nvPr/>
        </p:nvSpPr>
        <p:spPr>
          <a:xfrm>
            <a:off x="285840" y="555480"/>
            <a:ext cx="4213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2e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场景说出合适的名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3"/>
          <p:cNvSpPr/>
          <p:nvPr/>
        </p:nvSpPr>
        <p:spPr>
          <a:xfrm>
            <a:off x="357120" y="92880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常常花钱大手大脚，突然有一天，爸爸说我应该学会勤俭节约，不再给我零钱花了，好难适应啊！这时的你想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9"/>
          <p:cNvSpPr/>
          <p:nvPr/>
        </p:nvSpPr>
        <p:spPr>
          <a:xfrm>
            <a:off x="971640" y="2581200"/>
            <a:ext cx="435924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俭入奢易，由奢入俭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1857240" y="150012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单元我们学写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慈母情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爱之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精彩极了”和“糟糕透了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篇课文。请同学们回顾课文内容，想一想哪些地方让你感受到了父母子女之间浓浓的深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1908000" y="2682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流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4" descr=""/>
          <p:cNvPicPr/>
          <p:nvPr/>
        </p:nvPicPr>
        <p:blipFill>
          <a:blip r:embed="rId1"/>
          <a:stretch/>
        </p:blipFill>
        <p:spPr>
          <a:xfrm>
            <a:off x="592200" y="2033640"/>
            <a:ext cx="1103400" cy="15825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5" descr=""/>
          <p:cNvPicPr/>
          <p:nvPr/>
        </p:nvPicPr>
        <p:blipFill>
          <a:blip r:embed="rId2"/>
          <a:stretch/>
        </p:blipFill>
        <p:spPr>
          <a:xfrm>
            <a:off x="206280" y="42228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7" name="文本框 11"/>
          <p:cNvSpPr/>
          <p:nvPr/>
        </p:nvSpPr>
        <p:spPr>
          <a:xfrm>
            <a:off x="219240" y="411120"/>
            <a:ext cx="12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3"/>
          <p:cNvSpPr/>
          <p:nvPr/>
        </p:nvSpPr>
        <p:spPr>
          <a:xfrm>
            <a:off x="357120" y="92880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食堂里要张贴标语，教育同学们珍惜粮食，你会推荐哪句名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9"/>
          <p:cNvSpPr/>
          <p:nvPr/>
        </p:nvSpPr>
        <p:spPr>
          <a:xfrm>
            <a:off x="357120" y="2571840"/>
            <a:ext cx="806472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粥一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当思来处不易；半丝半缕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恒念物力维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4"/>
          <p:cNvSpPr/>
          <p:nvPr/>
        </p:nvSpPr>
        <p:spPr>
          <a:xfrm>
            <a:off x="684360" y="627120"/>
            <a:ext cx="7704000" cy="3063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谁知盘中餐，粒粒皆辛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良田万顷，日食一升。广厦千间，夜眠七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无农不稳，无粮则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饮水要思源，吃饭当节俭。粒粒盘中餐，皆是辛苦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节约光荣，人见人赞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浪费可耻，谁闻谁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线形标注 1 5"/>
          <p:cNvSpPr/>
          <p:nvPr/>
        </p:nvSpPr>
        <p:spPr>
          <a:xfrm>
            <a:off x="857160" y="642960"/>
            <a:ext cx="6769080" cy="825480"/>
          </a:xfrm>
          <a:prstGeom prst="borderCallout1">
            <a:avLst>
              <a:gd name="adj1" fmla="val 18750"/>
              <a:gd name="adj2" fmla="val -8333"/>
              <a:gd name="adj3" fmla="val 132995"/>
              <a:gd name="adj4" fmla="val 10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慈母情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中的“母亲掏衣兜，掏出一卷揉得皱皱的毛票，用龟裂的手指数着。”描写中，我体会到了母亲对“我”读书的支持和无私的爱。联系上下文，还可以体会到“我”的羞愧和自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3071880" y="278604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线形标注 1 5"/>
          <p:cNvSpPr/>
          <p:nvPr/>
        </p:nvSpPr>
        <p:spPr>
          <a:xfrm>
            <a:off x="857160" y="642960"/>
            <a:ext cx="6769080" cy="459720"/>
          </a:xfrm>
          <a:prstGeom prst="borderCallout1">
            <a:avLst>
              <a:gd name="adj1" fmla="val 18750"/>
              <a:gd name="adj2" fmla="val -8333"/>
              <a:gd name="adj3" fmla="val 193268"/>
              <a:gd name="adj4" fmla="val 10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慈母情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中描写母亲工作场景的内容中，看出了母亲工作环境的恶劣，而母亲在如此恶劣的环境下工作就是为了养活一家子，从中也体会到了母亲对孩子竭尽全力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37098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线形标注 1 5"/>
          <p:cNvSpPr/>
          <p:nvPr/>
        </p:nvSpPr>
        <p:spPr>
          <a:xfrm>
            <a:off x="857160" y="642960"/>
            <a:ext cx="6769080" cy="825480"/>
          </a:xfrm>
          <a:prstGeom prst="borderCallout1">
            <a:avLst>
              <a:gd name="adj1" fmla="val 18750"/>
              <a:gd name="adj2" fmla="val -8333"/>
              <a:gd name="adj3" fmla="val 82384"/>
              <a:gd name="adj4" fmla="val 10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父爱之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写我和父亲住小客栈的内容中体会到了父亲对我深切的爱，还有我对父亲的理解和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286000" y="2143080"/>
            <a:ext cx="38577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线形标注 1 5"/>
          <p:cNvSpPr/>
          <p:nvPr/>
        </p:nvSpPr>
        <p:spPr>
          <a:xfrm>
            <a:off x="1071720" y="928800"/>
            <a:ext cx="6769080" cy="459720"/>
          </a:xfrm>
          <a:prstGeom prst="borderCallout1">
            <a:avLst>
              <a:gd name="adj1" fmla="val 18750"/>
              <a:gd name="adj2" fmla="val -8333"/>
              <a:gd name="adj3" fmla="val 238731"/>
              <a:gd name="adj4" fmla="val 10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结：通过刚才的交流，我们发现作者的感情有时是通过文中描写的场景表达出来的，有时是蕴含在一个个细节之中的。我们抓住印象深刻的场景和细节来品味，就可以更好地体会到作者表达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1357200" y="2857680"/>
            <a:ext cx="2400480" cy="1800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4003560" y="2867040"/>
            <a:ext cx="30924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357120" y="1035000"/>
            <a:ext cx="7643880" cy="8254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读“词句段运用”第一题，边读边思考：一篇文章是由题目、开头、中间和结尾构成的，这三篇文章的结尾分别和文章的其他部分有什么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611280" y="259380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这样，我有了第一本长篇小说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11280" y="36100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前后照应，表现了母亲支持我读书对我人生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1908000" y="2682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句段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8" descr=""/>
          <p:cNvPicPr/>
          <p:nvPr/>
        </p:nvPicPr>
        <p:blipFill>
          <a:blip r:embed="rId1"/>
          <a:stretch/>
        </p:blipFill>
        <p:spPr>
          <a:xfrm>
            <a:off x="206280" y="42228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2" name="文本框 11"/>
          <p:cNvSpPr/>
          <p:nvPr/>
        </p:nvSpPr>
        <p:spPr>
          <a:xfrm>
            <a:off x="219240" y="411120"/>
            <a:ext cx="12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5"/>
          <p:cNvSpPr/>
          <p:nvPr/>
        </p:nvSpPr>
        <p:spPr>
          <a:xfrm>
            <a:off x="428760" y="500040"/>
            <a:ext cx="82087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于是，我又想起了在故乡童年时代的“摇花乐”，还有那摇落的阵阵桂花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500040" y="4143240"/>
            <a:ext cx="813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两个结尾和题目相照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428760" y="1785960"/>
            <a:ext cx="8208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从心底里知道，“精彩极了 ”也好，“糟糕透了 ”也好，这两个极端的断言有一个共同的出发点，那就是爱。在爱的鼓舞下，我努力地向前驶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6:40:43Z</dcterms:modified>
  <cp:revision>104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